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7.xml.rels" ContentType="application/vnd.openxmlformats-package.relationships+xml"/>
  <Override PartName="/ppt/notesSlides/notesSlide7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808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202F-2860-467D-9A73-87CFE6C2599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272A-1D05-492F-BF15-39EE4CFDCE3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584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40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682880"/>
            <a:ext cx="50292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"/>
          <p:cNvSpPr/>
          <p:nvPr/>
        </p:nvSpPr>
        <p:spPr>
          <a:xfrm>
            <a:off x="0" y="1143000"/>
            <a:ext cx="8610480" cy="0"/>
          </a:xfrm>
          <a:prstGeom prst="line">
            <a:avLst/>
          </a:prstGeom>
          <a:ln w="12600">
            <a:solidFill>
              <a:srgbClr val="3d85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095880"/>
            <a:ext cx="8610480" cy="0"/>
          </a:xfrm>
          <a:prstGeom prst="line">
            <a:avLst/>
          </a:prstGeom>
          <a:ln w="12600">
            <a:solidFill>
              <a:srgbClr val="3d85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034760" y="6324480"/>
            <a:ext cx="17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Folie: </a:t>
            </a:r>
            <a:fld id="{1226589E-2179-4FB3-8303-41E9AA3D0CE6}" type="slidenum">
              <a:rPr b="0" lang="de-DE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44680" y="68580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663a0"/>
                </a:solidFill>
                <a:latin typeface="Verdana"/>
              </a:rPr>
              <a:t>sigs-datacom.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705720" y="152280"/>
            <a:ext cx="1981080" cy="615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04920" y="632412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Bernd Marquardt</a:t>
            </a: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143000"/>
            <a:ext cx="8610480" cy="0"/>
          </a:xfrm>
          <a:prstGeom prst="line">
            <a:avLst/>
          </a:prstGeom>
          <a:ln w="12600">
            <a:solidFill>
              <a:srgbClr val="3d85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095880"/>
            <a:ext cx="8610480" cy="0"/>
          </a:xfrm>
          <a:prstGeom prst="line">
            <a:avLst/>
          </a:prstGeom>
          <a:ln w="12600">
            <a:solidFill>
              <a:srgbClr val="3d85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4680" y="68580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663a0"/>
                </a:solidFill>
                <a:latin typeface="Verdana"/>
              </a:rPr>
              <a:t>sigs-datacom.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30720" y="624852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663a0"/>
                </a:solidFill>
                <a:latin typeface="Verdana"/>
              </a:rPr>
              <a:t>Events · Solutions · Public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705720" y="152280"/>
            <a:ext cx="1981080" cy="615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33520" y="2590920"/>
            <a:ext cx="8001000" cy="25081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1905120"/>
            <a:ext cx="807696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Einführung in die Sprache C#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Bernd Marquard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Software &amp; Consulting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C++ MV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906800" cy="5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Wertetype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infache“ Typen werden auf dem Stack angelegt (= Wertetypen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byte, byte, short, ushort, int, uint, long, ulong, char, bool, decimal, float, doub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truc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enum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Sehr schnelle Verarbeitung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Wenig Overhea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906800" cy="63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Referenztype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Referenztypen laufen unter der Kontrolle des Garbage Collector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Sie werden auf der „globalen Halde“ im Speicher abgeleg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class, interface, array, delegat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object, st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Verarbeitung ist aufwändige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Objekte werden vom Garbage Collector automatisch (irgendwann) entsorg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70440" cy="63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Boxing / Unboxing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Boxing und unboxing ist die Brücke zwischen Wertetypen und Referenztyp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s gibt Sprachen, da ist alles ein Objekt: z.B. Lisp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s gibt Sprachen völlig ohne Objekte: z.B. Fortr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Ideal ist ein „Mittelding“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Möglichst objektorientiert, aber auch möglichst schnel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Performance, Lesbarkeit, Logik, Wartbarkeit, Wiederverwendbarkei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835520" cy="63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Boxing / Unboxing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In C# werden die „integralen“ Typen normalerweise nicht als Objekte bearbeite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Wenn ein Objekt gebraucht wird, kann man Boxing benutz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Mit Unboxing hat man dann kein Objekt meh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729360" y="4595760"/>
            <a:ext cx="64029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int iWert = 5;         // Wertety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object obj = iWert;    // Box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int jWert = (int) obj; // Unbox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122800" cy="63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Variable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7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s gibt 7 Typen von Variabl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tatische Variabl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Instanz-Variabl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Array-Element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Wert-Paramete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Referenz-Paramete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Output-Paramete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Lokale Variabl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906800" cy="63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Initialisierung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6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Automatisch initialisiert werden folgende Variablentypen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tatische Variabl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Instanz-Variablen von Klass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Array-Element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Für Werte-Typen: Aufruf des Default-Konstruktors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Numerische 0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Für Referenz-Typen: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null-Referenz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63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Konvertierunge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5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Implizite Konvertierung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Werden automatisch durchgeführ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xplizite Konvertierung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Müssen programmiert werd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Man kann nicht alles konvertier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748440" y="4251240"/>
            <a:ext cx="80488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int a = 123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long b = a;      // implizite Konvertier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// int c = b;    // Fehler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int c = (int) b; // Explizite Konvertier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05152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Konstante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Nicht änderbare Wer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Als lokale Wert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Als Instanz-Wert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Schlüsselwort: cons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58440" y="3841920"/>
            <a:ext cx="567144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const int a = 123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const double pi = 3.14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// pi = 0.0;         // Feh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double res = pi * a; // 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02080" cy="63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Blöck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Label und got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ntscheidungen: if und el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Schleifen: for, while und d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switch-Stat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checked und uncheck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as „leere“ Stat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elegat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691160" cy="77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Blöck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9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Böcke werden mit geschweiften Klammern gesetz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Werden auch bei Schleifen, if-Befehlen, uvm. benutz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605520" y="3567240"/>
            <a:ext cx="6402960" cy="23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int a = 5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Console.WriteLine(a);  // 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Console.WriteLine(a);    // Feh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691160" cy="63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77724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Aufbau von Programm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Namensräum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eklaration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762440" cy="49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Label und goto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Für die Freunde der unstrukturierten Programmierung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656640" y="2744640"/>
            <a:ext cx="786600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void Funktio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if(done) goto exi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exi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Console.WriteLine(„This is the end...“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762440" cy="63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Entscheidunge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77724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Mit if und el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Mehrere Statements mit { … }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in Statement ohne { … }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1543320" y="2781360"/>
            <a:ext cx="475704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void Funktion(ref int 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if(a != 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a += 1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Console.WriteLine(a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a = 10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4831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Entscheidunge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5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Ineinandergeschachtelte if-Befehle sind möglich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Mehrere Blöcke nacheinander mit if – else if – else if – el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Achtung: In ein solchen Konstruktion wird immer nur EIN Block durchlauf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Es können  beliebig viele „else if“ aneinander gereiht werd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051520" cy="5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Entscheidunge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77724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Schreibweisen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532440" y="1700280"/>
            <a:ext cx="8048880" cy="50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if(a &lt; 0)            if(a &lt; 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{                   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...                 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}                  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else if(a &gt; 10)       e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{                   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...                  if(a &gt; 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}                     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else if(a &gt; 2)         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{                    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...                  e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}                     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                     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if(a &gt; 2)  { ...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                   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                 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}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483160" cy="5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Nochmal Blöck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77724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Unterschiedliche Schreibweisen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894960" y="1773360"/>
            <a:ext cx="5671440" cy="43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if(a == 0)       // Variante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a = 1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----------------------------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if(a == 0)       // Variante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a = 1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----------------------------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if(a == 0) {     // Variante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a = 1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554800" cy="63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Schleife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s gibt 3 Schleifenarten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for-Schleif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while-Schleif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o-Schleif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for: Fester Start- und Endwer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Check vor Schleifendurchlau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while: Check vor Schleifendurchlauf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o: Check nach Schleifendurchlauf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77044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continue und break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Mit continue springt man an das Ende der Schleife, die Schleife wird dann aber weiter ausgeführ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Mit break springt man an das Ende der Schleife, die Schleife wird dann beende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822240" y="3500280"/>
            <a:ext cx="5122800" cy="23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for(int i = 0; i &lt; 10; i++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if(i == 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break;     // continu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Console.WriteLine(i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5480" y="3500280"/>
            <a:ext cx="2390400" cy="23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rgebnis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rea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0 1 2 3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tinu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0 1 2 3 4 6 7 8 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762440" cy="63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switch-Statement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23516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Ideal für die Abarbeitung vieler „cases“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Sehr schnel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Geht in C# auch mit string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Am Ende des „case“-Blocks muss ein „break“ steh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Fall-Through muss mit „goto case“ explizit programmiert werd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goto default ist möglich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efault-case ist möglich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Muss als letzter case-Block steh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41008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return-Statement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777240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Rückgabe von Werten aus Method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Rücksprung auch ohne Wert möglich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1326960" y="2349360"/>
            <a:ext cx="5488560" cy="43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static void Mai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int iWert = Funktion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Console.WriteLine(iWert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int Funktio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return (3 + 5) * 5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void Funktion2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// return hier nicht nötig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691160" cy="63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checked und unchecke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9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inschalten und ausschalten des Überprüfen des Überlaufs (Overflow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Kann auch per Compiler-Option ein- oder ausgeschaltet werd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1018440" y="3429000"/>
            <a:ext cx="6220080" cy="2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check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// Code wird im checked-Con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// ausgefüh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122800" cy="49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Aufbau von Programme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461880" y="1441440"/>
            <a:ext cx="7317360" cy="30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using System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class Hel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static void Mai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Console.WriteLine(„Hello, World!“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400" y="4870440"/>
            <a:ext cx="4743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Übersetzung: csc hello.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rgebnis: hello.exe mit IL-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fruf: hel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259160" cy="5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Delegat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7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elegaten“ sind im Prinzip typsichere Zeiger auf Funktion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elegate definier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elegate instanzier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elegate benutzen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894240" y="2708280"/>
            <a:ext cx="64029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delegate int Rechne(int a, int b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94600" y="3573360"/>
            <a:ext cx="60372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Rechne xx = new Rechne(Method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93880" y="4508640"/>
            <a:ext cx="69516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int iWert = xx(2, 5); // Methode wi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                  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// aufgeruf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int jWert = xx(3);    // FEHLER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19444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Delegat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Multicast-delegates sind ebenfalls möglich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Aufruf von mehreren Methoden ist möglich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Wird seltener benötig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elegates sind auch bei „Rückruf-Funktionen“ (CallBack) sehr wichtig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402080" cy="49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Aufbau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eklar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Konstruktor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estrukto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Variablen, Konstant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Methoden und Eigenschaft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reignis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Indexe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Ableitung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Überladung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Struktur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267160" cy="63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Aufbau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6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inleitung mit class-Schlüsselwor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Innerhalb der Klass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Konstruktoren, Destruktor, Variablen, Konstan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Methoden, Eigenschaften, Indexer, Ereignis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1183320" y="3933720"/>
            <a:ext cx="4391280" cy="14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class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// Hier geht‘s we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835520" cy="63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Deklaratio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164960"/>
            <a:ext cx="857880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Instanzen von Klassen sind immer Referenz-Typ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ie werden vom Garbage-Collector verwalte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ie Instanzen werden mit „new“ angeleg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1038960" y="2997360"/>
            <a:ext cx="4208400" cy="30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class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static void Mai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Test a = new Test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5280" y="193320"/>
            <a:ext cx="410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Der Garbage Collector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er Garbage Collector von .NET verwaltet den Speicher sehr effizi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Objekt im Speicher anleg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benutzen..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...und vergess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er GC räumt (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Verdana"/>
              </a:rPr>
              <a:t>irgendwann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) au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Problem: Nicht deterministische Destruktor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69116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Konstruktore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ie Konstruktoren erlauben die korrekte Initialisierung einer Objekt-Instanz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s kann mehrere Konstruktoren geb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ie müssen sich durch die Parameter unterscheid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Es gibt keinen Rückgabewert aus einem Konstrukto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er Default-Konstruktur ist parameterlo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691160" cy="5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Destruktor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er Destruktor steuert die Auflösung einer Objekt-Instanz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Wird nur programmiert, wenn er auch erforderlich is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Im Destruktor können Resourcen freigegeben werd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itmaps, Speicher, Dateien schließen, us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s gibt nur einen Destrukto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er Destruktor hat keine Parameter und keine Rückgabe-Paramete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519588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Der Garbage Collector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1720" y="1415880"/>
            <a:ext cx="777240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Nicht deterministische Destruktor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Werden erst dann ausgeführt, wenn der GC das Objekt tatsächlich zerstör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Möglichkeiten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ispose-Methode (ableiten von der Schnittstelle: IDisposable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Finalize-Methode (Destruktor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Benutzung von „using“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GC.Collect(…) aufrufen, um Garbage Collection zu erzwingen (NICHT SO GUT!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762440" cy="77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Der using-Befehl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Objekt-Instanz wird erzeug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Bleibt nur innerhalb des nachfolgenden Blocks verfügba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Am Ende des Blocks wird automatisch die Dispose-Methode aufgeruf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s können in einem using auch mehrere Objekte erzeugt werd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460800" y="4508640"/>
            <a:ext cx="8414640" cy="14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using(Test x = new Test(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// Hier kann x benutzt wer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} // Hier wird automatisch Dispose aufgeruf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48316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Namesräum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461520" y="1441440"/>
            <a:ext cx="7683120" cy="40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using System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namespace Hello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class Hel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static void Mai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Console.WriteLine(„Hello, World!“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760" y="5416560"/>
            <a:ext cx="764028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ugriff auf Hello im Namensraum HelloSpace: Hel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ugriff von aussen: HelloSpace.Hel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02080" cy="63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Variablen, Konstante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s gib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Instanz-Variabl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eklaration am Anfang der Klas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public, private, protected, inter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Lokale Variabl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eklaration in einer Metho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Von außen nicht zugreifb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Konstant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public const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statisch, Zugriff von außen nur über Klassenn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051520" cy="63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Methode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Aufruf: hinten runde Klammer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Rückgabe-Parameter möglich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Mehrere return-Befehle in einer Methode sind möglich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Zugriff auf Method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public, private, internal, protect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906800" cy="5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Eigenschaften (Properties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235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Ideale Methode, um private Variablen zurückzugeben und zu setz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1687680" y="1989000"/>
            <a:ext cx="5305680" cy="46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private int iWert = 0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public int Pr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return iWer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// Hier Datenvalidier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iWert = valu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19444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Ereignisse (Events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5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vents werden über delegates realisier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ventHandler bekommen immer zwei Paramete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object sende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EventArgs 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s können eigene Event-Argument-Klassen erstellt werd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Können die für den Event wichtigen Daten enthalt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619520" cy="63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Indexer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6920" y="1341000"/>
            <a:ext cx="7772400" cy="31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Zugriff in ein Klassen-Objekt wie auf ein Arra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Beispiel: BitArra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>
            <a:off x="1254240" y="2708280"/>
            <a:ext cx="5122800" cy="37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public bool this[int index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return ...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... = valu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}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48316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Ableitunge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18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ine neue Klasse erbt von einer existierenden Basisklas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Mit „sealed“: Keine Ableitung  möglich (z.B.: string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965160" y="2924280"/>
            <a:ext cx="7317360" cy="37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class base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class newClass : base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// Diese Klasse erbt die öffentlich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// Teile der Basisklas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978440" cy="63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Ableitunge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360" y="1235160"/>
            <a:ext cx="8229600" cy="32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Objektorientiertes Paradigma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Basis-Klasse: Allgmeine Klass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Abgeleitete Klassen: Spezielle Klass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Abgeleitete Klassen erben die Eigenschaften der Basis-Klass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Mehrfachvererbung nicht möglich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Ableitung von mehreren Interfaces möglich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2987640" y="4136400"/>
            <a:ext cx="3097080" cy="75060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Basis-Klas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Tier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74760" y="5497560"/>
            <a:ext cx="962280" cy="42156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H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25040" y="5521320"/>
            <a:ext cx="997200" cy="42156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Kat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871960" y="5521320"/>
            <a:ext cx="776520" cy="42156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Ku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47600" y="5521320"/>
            <a:ext cx="980640" cy="42156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Fis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627280" y="4903560"/>
            <a:ext cx="1152720" cy="617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3922560" y="4903560"/>
            <a:ext cx="576360" cy="617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4859280" y="4903560"/>
            <a:ext cx="287280" cy="617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5364000" y="4903560"/>
            <a:ext cx="935280" cy="617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47516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Überladung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8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Methoden oder Eigenschaften in Klassen können (auch mehrfach) überladen werd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ie Signaturen (Übergabe-Parameter) der überladenen Methoden müssen unterschiedlich sei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Return-Wert hat dabei keine Bedeutu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619520" cy="63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Strukture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Strukturen sind sog. „leichte“ Klass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Werden auf dem Stack angeleg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Sehr schnel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Man kann von einer Struktur nicht ableit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ine Struktur kann nicht abgeleitet werden (von einer Klasse oder einer anderen Struktur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Footprint“ einer Struktur ist kleiner als der einer Klas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19444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Statische Element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ine statische Variable in einer Klasse oder Struktur existiert nur einmal für alle Instanz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Man kann also die Anzahl der erzeugten Objekte damit zähl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627520" cy="49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Namesräum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189000" y="1441440"/>
            <a:ext cx="896328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namespace Hello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class Hel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static void Mai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System.Console.WriteLine(„Hello, World!“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9120" y="4846680"/>
            <a:ext cx="80960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Ohne Namensraum System: System muss beim Aufru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ngegeben wer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338800" cy="5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9640" y="123480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Array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eklaration und Anlegen von Arr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Abfrage von Element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Mehrdimensionale Arr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Jagged“ Arr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Aufzählungen (Enums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efinitio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Benutzu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Konvertierung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48316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Deklaration und Anlege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eklaration mit new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Arrays werden auf der globalen Halde angeleg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Arrays sind abgeleitet von der Klasse „System.Array“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"/>
          <p:cNvSpPr/>
          <p:nvPr/>
        </p:nvSpPr>
        <p:spPr>
          <a:xfrm>
            <a:off x="894960" y="3500280"/>
            <a:ext cx="548856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int [] iArray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double [] dZahle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iArray = new int[10]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dZahlen = new double[1000]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// In einem Schrit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int [] iWerte = new int[100]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63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Deklaration und Anlege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as Array „new int[10]“ erzeugt die Arrayelemente von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0 bi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9 einschließlich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Schleife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874800" y="4048200"/>
            <a:ext cx="5122800" cy="14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for(int i = 0; i &lt; 10; i++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76244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Abfrage von Elemente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Abfrage und Setzen von Arrayelementen über Index in eckigen Klammer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Wenn Index zu groß oder zu klein ist, dann wird die „OutOfRangeException“ ausgelös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1110960" y="3141720"/>
            <a:ext cx="5488560" cy="23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int [] iWerte = new int[10]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iWerte[5] = 10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iWerte[3] = iWerte[5]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Console.WriteLine(iWerte[5]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Console.WriteLine(iWerte[0]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475128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Abfrage von Elemente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Abfrage mit foreach-Schleif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Index wird nicht benötig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Arrayelemente können nur der Reihe nach abgearbeitet werd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820800" y="3284640"/>
            <a:ext cx="6768720" cy="23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string [] strArray = new string[10]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// Array mit Daten fü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foreach(string s in strArra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Console.WriteLine(s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05152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Mehrdimensionale Array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1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Mehrdimensionale Arrays sind ebenfalls erlaub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ie Felder sind rechteckig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"/>
          <p:cNvSpPr/>
          <p:nvPr/>
        </p:nvSpPr>
        <p:spPr>
          <a:xfrm>
            <a:off x="966240" y="3429000"/>
            <a:ext cx="60372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int [,] iZahlen = new int[5, 3]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iZahlen[2, 2] = 25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619520" cy="77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Jagged“ Array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3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Jagged“ Arrays können unregelmäßig sei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in „jagged“ Array ist ein Array, dass mehrere, unterschiedlich große Arrays als Referenzen verwalte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"/>
          <p:cNvSpPr/>
          <p:nvPr/>
        </p:nvSpPr>
        <p:spPr>
          <a:xfrm>
            <a:off x="2050920" y="3068640"/>
            <a:ext cx="505080" cy="2879640"/>
          </a:xfrm>
          <a:prstGeom prst="rect">
            <a:avLst/>
          </a:prstGeom>
          <a:solidFill>
            <a:srgbClr val="c0c0c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050920" y="3479760"/>
            <a:ext cx="505080" cy="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050920" y="3890880"/>
            <a:ext cx="505080" cy="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50920" y="4302000"/>
            <a:ext cx="505080" cy="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50920" y="4713120"/>
            <a:ext cx="505080" cy="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050920" y="5126040"/>
            <a:ext cx="505080" cy="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50920" y="5537160"/>
            <a:ext cx="505080" cy="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16200000">
            <a:off x="4222800" y="1762200"/>
            <a:ext cx="411120" cy="3024000"/>
          </a:xfrm>
          <a:prstGeom prst="rect">
            <a:avLst/>
          </a:prstGeom>
          <a:solidFill>
            <a:srgbClr val="80808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349800" y="3068640"/>
            <a:ext cx="0" cy="41112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3781440" y="3068640"/>
            <a:ext cx="0" cy="41112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213080" y="3068640"/>
            <a:ext cx="0" cy="41112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645080" y="3068640"/>
            <a:ext cx="0" cy="41112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076720" y="3068640"/>
            <a:ext cx="1800" cy="41112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508720" y="3068640"/>
            <a:ext cx="1440" cy="41112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6200000">
            <a:off x="4006800" y="2388960"/>
            <a:ext cx="411120" cy="2592360"/>
          </a:xfrm>
          <a:prstGeom prst="rect">
            <a:avLst/>
          </a:prstGeom>
          <a:solidFill>
            <a:srgbClr val="80808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349800" y="3479760"/>
            <a:ext cx="0" cy="41112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781440" y="3479760"/>
            <a:ext cx="0" cy="41112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4213080" y="3479760"/>
            <a:ext cx="0" cy="41112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4645080" y="3479760"/>
            <a:ext cx="0" cy="41112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5076720" y="3479760"/>
            <a:ext cx="1800" cy="41112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3790800" y="3016080"/>
            <a:ext cx="411120" cy="2160360"/>
          </a:xfrm>
          <a:prstGeom prst="rect">
            <a:avLst/>
          </a:prstGeom>
          <a:solidFill>
            <a:srgbClr val="80808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3349800" y="3890880"/>
            <a:ext cx="0" cy="41112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781440" y="3890880"/>
            <a:ext cx="0" cy="41112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4213080" y="3890880"/>
            <a:ext cx="0" cy="41112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645080" y="3890880"/>
            <a:ext cx="0" cy="41112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16200000">
            <a:off x="4222800" y="2995560"/>
            <a:ext cx="411120" cy="3024000"/>
          </a:xfrm>
          <a:prstGeom prst="rect">
            <a:avLst/>
          </a:prstGeom>
          <a:solidFill>
            <a:srgbClr val="80808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3349800" y="4302000"/>
            <a:ext cx="0" cy="41112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781440" y="4302000"/>
            <a:ext cx="0" cy="41112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213080" y="4302000"/>
            <a:ext cx="0" cy="41112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645080" y="4302000"/>
            <a:ext cx="0" cy="41112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5076720" y="4302000"/>
            <a:ext cx="1800" cy="41112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508720" y="4302000"/>
            <a:ext cx="1440" cy="41112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16200000">
            <a:off x="3790800" y="3838320"/>
            <a:ext cx="411480" cy="2160360"/>
          </a:xfrm>
          <a:prstGeom prst="rect">
            <a:avLst/>
          </a:prstGeom>
          <a:solidFill>
            <a:srgbClr val="80808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3349800" y="4712760"/>
            <a:ext cx="0" cy="41148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3781440" y="4712760"/>
            <a:ext cx="0" cy="41148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213080" y="4712760"/>
            <a:ext cx="0" cy="41148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4645080" y="4712760"/>
            <a:ext cx="0" cy="41148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16200000">
            <a:off x="3142440" y="4899600"/>
            <a:ext cx="411120" cy="863640"/>
          </a:xfrm>
          <a:prstGeom prst="rect">
            <a:avLst/>
          </a:prstGeom>
          <a:solidFill>
            <a:srgbClr val="80808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349800" y="5126040"/>
            <a:ext cx="0" cy="41112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6200000">
            <a:off x="4222800" y="4230720"/>
            <a:ext cx="411120" cy="3024000"/>
          </a:xfrm>
          <a:prstGeom prst="rect">
            <a:avLst/>
          </a:prstGeom>
          <a:solidFill>
            <a:srgbClr val="80808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349800" y="5537160"/>
            <a:ext cx="0" cy="41112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781440" y="5537160"/>
            <a:ext cx="0" cy="41112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213080" y="5537160"/>
            <a:ext cx="0" cy="41112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4645080" y="5537160"/>
            <a:ext cx="0" cy="41112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076720" y="5537160"/>
            <a:ext cx="1800" cy="41112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5508720" y="5537160"/>
            <a:ext cx="1440" cy="41112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268360" y="3274920"/>
            <a:ext cx="64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268360" y="3686040"/>
            <a:ext cx="64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68360" y="4097160"/>
            <a:ext cx="64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268360" y="4508640"/>
            <a:ext cx="64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268360" y="4921200"/>
            <a:ext cx="64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268360" y="5332320"/>
            <a:ext cx="64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68360" y="5743440"/>
            <a:ext cx="64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906800" cy="63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Definition von Enum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1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Wichtiges Sprachelement in .NE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Macht den Code wesentlich sprechende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"/>
          <p:cNvSpPr/>
          <p:nvPr/>
        </p:nvSpPr>
        <p:spPr>
          <a:xfrm>
            <a:off x="727920" y="3156120"/>
            <a:ext cx="7866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enum Test { Getestet = 1, ImTest, Nicht }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Test wert = Test.ImTest;   // =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978440" cy="5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Benutzung von Enum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s werden keine Konstanten verwende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wie früher bei der API-Programmieru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s wird sprechender Code erzeug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ie int-Zahl, die sich dahinter verbirgt, interessiert nich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nums sich typ-siche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Man kann nicht einfach einen int verwend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Es muss der Enum-Typ benutzt werden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4762440" cy="67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Konvertierungen von Enum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68360" y="1987200"/>
            <a:ext cx="822960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num Test { Ja, nein };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Test t = Test.Ja;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Int i = (int) t;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Test t2 = (Test) i;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762440" cy="63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Deklaratione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164960"/>
            <a:ext cx="822960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Typ Name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[, Name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,…];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Typ Name = Wert;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Typ Name = Name;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605160" y="2637000"/>
            <a:ext cx="6951600" cy="40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class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void Funktion1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int j = 1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int k = j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// i, j und k haben nur innerhal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// des Blocks { } Gültigke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762440" cy="63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Konvertierunge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Implizite Konvertierung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xplizite Konvertierung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Bei Genauigkeitsverlust: Immer Compiler-Warnung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1328760" y="3213000"/>
            <a:ext cx="365976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int i = 5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float f = 5.0f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double d = 5.0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f = i;   // 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i = f;   // Warn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d = f;   // 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i = d;   // Warn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77044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9640" y="1234800"/>
            <a:ext cx="7772400" cy="34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inführung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try und catch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Mehrere Ausnahm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finall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xceptions werfen (throw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ie Klasse System.Excep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igene Exception-Klass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12280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Einführung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7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Ältere Fehlerbehandlungsmethoden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On Error Goto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Rückgabewer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ool-Wert oder Integer als Fehlernumm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Probleme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Nicht objektorientier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Viele if-Abfrag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Kein einheitliches Konzep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619520" cy="5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try und catch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7772400" cy="39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In try-Block werden die Befehle ausgeführ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Wenn etwas „schief geht“, wird im catch-Block weiter gemach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1543680" y="2997360"/>
            <a:ext cx="457416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// Auszuführender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catch(Exception e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// Fehlerbehandl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978440" cy="63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try und catch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4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Man kann Exceptions ineinander schachtel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Es wird immer der catch-Block des try-Blocks ausgeführt, in dem der Fehler aufgetreten is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Im Exception-Objekt des catch-Befehls werden wichtige Informationen zum Fehler übergeb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267160" cy="77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Mehrere catch-Blöck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s gibt bereits viele Exception-Klassen in .NE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Wenn ein Fehler auftritt, dann wird nicht nur enfach eine Exception „geworfen“, sondern es wird eine typische Exception ausgelös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OutOfMemoryExceptio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ArithmeticExceptio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FormatExceptio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usw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99160" cy="5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Mehrere catch-Blöck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s können mehrere catch-Blöcke mit unterschiedlichen Exception-Typen hintereinander gehängt werd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Es wird der passende catch-Handler angesprunge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1182240" y="3357720"/>
            <a:ext cx="5488560" cy="2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t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{ ...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catch(ArithmeticException e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{ ...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catch(Exception e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{ ...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43520" cy="5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finally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5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in finally-Block wird immer ausgeführ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Egal, on im try-Block ein Fehler auftritt, oder nich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1328400" y="2924280"/>
            <a:ext cx="3842640" cy="30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{ ...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catch(Exception e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{ ...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fin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// Immer Aufräu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267160" cy="5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Exceptions werfe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9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xceptions können auch „geworfen“ werd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Befehl: throw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ie Exception wird eine Ebene höher bearbeitet (im catch-Block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throw geht auch in Konstruktor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"/>
          <p:cNvSpPr/>
          <p:nvPr/>
        </p:nvSpPr>
        <p:spPr>
          <a:xfrm>
            <a:off x="532080" y="3860640"/>
            <a:ext cx="841464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if(a == null)  // Nur als Beispi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throw new Exception(„Hier ist was falsch“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546440" cy="49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System.Exceptio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ie Basis-Exception-Klasse im .NET Framework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Alle anderen Exceptions sind hier abgeleite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as jeweilige Exception-Objekt enthält wichtige Info‘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Exception-Meldu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ource-Applikation, in der der Fehler aufgetreten is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TargetSite (Methode), in der der Fehler aufgetreten is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63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Deklaratione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371240"/>
            <a:ext cx="8820000" cy="52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sbyte, byte = System.SByte, System.By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short, ushort = System.Int16, System.UInt16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int, uint = System.Int32, System.UInt3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long, ulong = System.Int64, …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char = System.Cha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float, double = System.Single, System.Doubl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ecimal = System.Decima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bool = System.Bool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906800" cy="5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Eigene Exception-Klasse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1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igene Exception-Klassen können auch programmiert werd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Eigene Klasse ableiten von System.ApplicationExceptio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ie eigene Exception-Klasse kann spezielle Fehlerinformationen enthalt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69116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Wenn keine Exception auftritt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ehr gute Performanc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Wenn Exceptions auftreten, ist es deutlich langsame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Also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xceptions NICHT für die „normale“ Fehlerbehandlung benutzen, sondern wirklich nur für „Ausnahmen“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691160" cy="5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77724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Wofür braucht man Interfaces?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eklar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Implementierung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Schnittstellen und Vererbung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5194440" cy="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Wofür braucht man Interfaces?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68360" y="178272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Schnittstellen (Interfaces) definieren  „Verhaltensweisen“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ine Schnittstelle ist eine Art Vertrag zwischen getrennten Codeteil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Wenn eine Klasse eine Schnittstelle benutzt (implementiert), dann kann man sich darauf verlassen, dass die Klasse alle Methoden der Schnittstelle implementier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338800" cy="63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Deklaratio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eklaration wie Klass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Mit leeren Methoden, Eigenschaften, ..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"/>
          <p:cNvSpPr/>
          <p:nvPr/>
        </p:nvSpPr>
        <p:spPr>
          <a:xfrm>
            <a:off x="820440" y="2743200"/>
            <a:ext cx="7134480" cy="30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interface I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int TestProp { get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string TestProp2 { get; set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event TestEvent Changed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void Method(int a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string this[int index] { get; set;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906800" cy="5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Implementierung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5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ie Klasse, welche die Schnittstelle implementieren soll, wird von der Schnittstelle „abgeleitet“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Wenn der Schnittstellenname eingegeben wurde, codiert der VS-Editor die leeren Elemente der Schnittstelle in der Klasse (Context-Menü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968400" y="4508640"/>
            <a:ext cx="3476880" cy="14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class Test : I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4932000" y="4457880"/>
            <a:ext cx="1871640" cy="823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691160" cy="49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Vererbung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Man kann von einer Klasse ableit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Man kann von beliebig vielen Schnittstellen ableit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ACHTUNG: Mehrdeutigkeiten sollten vermieden werd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821160" y="3500280"/>
            <a:ext cx="6585840" cy="30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interface IDataStore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void SaveData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interface ISerialize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void SaveData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class Test : IDataStore, ISeriali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31440" y="1409760"/>
            <a:ext cx="8372520" cy="75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ragen und Antworte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835520" cy="5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Zugriff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public - öffentlich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protected – nur in abgeleiteten Klass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internal – nur im Assembl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protected internal – entspricht protected „oder“ interna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private – nicht öffentlich, nur in diesem Typ benutzba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Keine Angabe – entspricht priva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338800" cy="49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77240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Wertetyp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Referenztyp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Boxing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Variablen-Kategori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Initialisierung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Konvertierung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5T12:10:30Z</dcterms:created>
  <dc:creator>DATACOM</dc:creator>
  <dc:description/>
  <dc:language>en-US</dc:language>
  <cp:lastModifiedBy>Bernd Marquardt</cp:lastModifiedBy>
  <dcterms:modified xsi:type="dcterms:W3CDTF">2006-03-14T20:41:30Z</dcterms:modified>
  <cp:revision>76</cp:revision>
  <dc:subject/>
  <dc:title>Neue Wege in der Telekommunikation</dc:title>
</cp:coreProperties>
</file>